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FACB-2EBE-491C-B8C1-2B338A46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AAE-9C4F-4501-BB10-87D2FD1C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AF0-56F2-4E61-8534-4528C445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837-ED14-48DF-841B-F9E6A87F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F69-4CAA-4244-B144-C3F23FEF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618-782C-4420-8BAA-1AB4DB3B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644-1223-413E-9FEF-4DFB8F58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33E-C4D7-4373-90F0-AE4DD053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248-61A5-46DD-9E6F-5B7B0992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7DB-B37F-454A-BFC4-14D8717F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36E-E40E-4F70-8BBE-1DD23B7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07C-E4F8-40F8-BDDD-DA600A8F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78B6-63B4-4F71-B8E9-6E89A3634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lbert_Namatjira_refuelling_for_a_trip_to_Alice_Springs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amatjira_Landscap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981000"/>
            <a:ext cx="7777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lbert Namatjira</a:t>
            </a:r>
            <a:endParaRPr b="1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3429000" cy="42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84720" y="189000"/>
            <a:ext cx="5256000" cy="59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rn Elea Namatj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rn on the 28 of July 19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rn in Hermannsburg near Alice Sp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of the Arrernte Tri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2408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51280" y="260280"/>
            <a:ext cx="55800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of Australia’s most acclaimed visual art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of Australia’s great art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haps the best known Aboriginal pa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st known for his water colour desert outback landscape paint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36003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211640" y="333360"/>
            <a:ext cx="540072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the age of 16 he returned to the bush as ini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le there he was exposed to traditional culture as part of the Arrente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soon became an elder wit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3743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00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71640" y="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260280"/>
            <a:ext cx="58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7280" y="0"/>
            <a:ext cx="482580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Namatjiras wealth grew so did his extended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boriginal culture everyone shares everything they have with their tri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e to this at one time he was single handedly providing for over 600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5621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71640" y="0"/>
            <a:ext cx="7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476280"/>
            <a:ext cx="4897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bert and his wife were granted citizenship in 19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entitled them to vote, own land, build a house and buy alcoh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789360"/>
            <a:ext cx="856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Namatjira on his way to Alice Spring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33829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51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250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53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000000"/>
                </a:solidFill>
                <a:latin typeface="Arial"/>
              </a:rPr>
              <a:t>At the time of his death Namatjira had painted a total of around two thousand paintings and had two short biographical films made about h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000000"/>
                </a:solidFill>
                <a:latin typeface="Arial"/>
              </a:rPr>
              <a:t>Namatjira's work is on public display in some of Australia's major art galle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3716280"/>
            <a:ext cx="5688000" cy="295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51640" y="587700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Lillia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5T03:15:59Z</dcterms:created>
  <dc:creator>Reservoir District Secondary College</dc:creator>
  <dc:description/>
  <dc:language>en-US</dc:language>
  <cp:lastModifiedBy>Rick James Biatch</cp:lastModifiedBy>
  <dcterms:modified xsi:type="dcterms:W3CDTF">2008-08-17T10:50:25Z</dcterms:modified>
  <cp:revision>3</cp:revision>
  <dc:subject/>
  <dc:title>Slide 1</dc:title>
</cp:coreProperties>
</file>